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jpeg" ContentType="image/jpeg"/>
  <Override PartName="/ppt/media/image1.wmf" ContentType="image/x-wmf"/>
  <Override PartName="/ppt/media/image2.gif" ContentType="image/gif"/>
  <Override PartName="/ppt/media/image7.jpeg" ContentType="image/jpeg"/>
  <Override PartName="/ppt/media/image10.wmf" ContentType="image/x-wmf"/>
  <Override PartName="/ppt/media/image8.wmf" ContentType="image/x-wmf"/>
  <Override PartName="/ppt/media/image1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B77-AC81-4ECD-9D7F-4EC35A42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68F-80B7-4619-8C33-6CE16BA3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CF3-229E-4C94-A388-06AFF89C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E4C-8E2A-4382-988F-B56C85BE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F04-EA2E-48ED-9B4F-6A8742D3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E89-76C8-4FFA-9DFD-C384DB4C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891-F77C-4CE9-9E9D-B00D9E70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643-7B3E-476F-A66E-A61D071B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937-A0C2-411F-B35A-36E8B73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E3C-C437-4C5C-98E3-ECA24CD7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995-0D02-487D-BE33-238A47A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B7A-EFD1-434E-8A19-103CD9F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93F7-1BF0-4299-8DD8-B0D27104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irstpeople.us/FP-Html-Pictures/wolves_pg2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NFERENCE RIDDL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clues infer what is being descri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made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made of 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sident’s face is 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lucky if you find me head’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kind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make a wish 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et thrown in f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Pe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408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is a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n in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ve in a col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elp flower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ve in a h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pollen and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tch from an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black with yellow mar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BE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Bumble bees"/>
          <p:cNvPicPr/>
          <p:nvPr/>
        </p:nvPicPr>
        <p:blipFill>
          <a:blip r:embed="rId1"/>
          <a:stretch/>
        </p:blipFill>
        <p:spPr>
          <a:xfrm>
            <a:off x="2795760" y="1924200"/>
            <a:ext cx="3552480" cy="30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bris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paste 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old me in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made of 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ng around bathroo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inside of your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ists give m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e so you won’t get ca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TOOTHBRU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5410080"/>
            <a:ext cx="234936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2511360" cy="1535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1752480"/>
            <a:ext cx="29638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in many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faster than a bi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buy me new or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Ford helped invent 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four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n engine and a muff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eed gas to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license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C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2005 Ford GT"/>
          <p:cNvPicPr/>
          <p:nvPr/>
        </p:nvPicPr>
        <p:blipFill>
          <a:blip r:embed="rId1"/>
          <a:stretch/>
        </p:blipFill>
        <p:spPr>
          <a:xfrm>
            <a:off x="1371600" y="160020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smaller tha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eflect light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ws jump over me in rh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miles from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rbit around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ull effects ocean 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visited me by space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l Armstrong visited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MO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657600" cy="234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65760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ight blow my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art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 Fuji is one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Expl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found in 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erupt sudde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reate l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m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wild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meat 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ravel in a 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native to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genus-species is Canis Lu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run 20 miles per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ve in a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ok like a German Shep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WO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Two Wolv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752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VOLC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mans and animals have 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m your body’s hardest p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see me when you sm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get 2 sets of 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I wear br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use me to chew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ds have 20, adults have 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am in your mou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m a molar, canine or inc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TEE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11480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very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to go to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in many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with string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to float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own turns me into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fill me wit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puffed up with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BALLO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870200" cy="25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982880" cy="276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187020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lots of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ravel with elep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eople fly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often have three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ring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home to cl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he greatest show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come with a trap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CIRC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938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8:07Z</dcterms:created>
  <dc:creator>North Rockland Schools</dc:creator>
  <dc:description/>
  <dc:language>en-US</dc:language>
  <cp:lastModifiedBy>North Rockland Schools</cp:lastModifiedBy>
  <dcterms:modified xsi:type="dcterms:W3CDTF">2010-04-15T17:52:04Z</dcterms:modified>
  <cp:revision>7</cp:revision>
  <dc:subject/>
  <dc:title>INFERENCE RIDDLES</dc:title>
</cp:coreProperties>
</file>